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AD4-BE74-4AAF-8EDD-27A6CBE1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C5E-90D7-40D1-9494-B9B4B24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841-4F20-406B-9533-104C02BD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310-5440-4CFD-86E3-C471F5E8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AE78-6A8F-4A90-9791-B619F617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6973-A0A4-46E2-AFEE-46B34CD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7977-6B02-4184-A8E5-CC9B48AC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8F22-AE17-4CC9-9F77-3BA61979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F160-4AF6-4264-B59F-F152994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01FD-C419-48AD-AB7B-B7C8659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2F5C-ED67-4B68-9425-59F18ABA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CA3-8B0C-4032-A6B9-F26ADFFE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4965-679A-4E2C-B9C0-E897C76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8A7-8B0A-4707-84DE-A60E4A6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F333-6C0C-4AF2-9862-B0CD8C65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AB1F-7113-44EA-8CC1-7A3FFE94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A13A-14BF-4ECD-BCE8-D5FF85E9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C255-F63C-4559-B911-835F42E2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5BF6-B70E-4F4F-8CCC-AD5CD35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39DA-FFE0-41BF-B526-4C6FB3BE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265D-5E9C-4FD1-93CC-26BD791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D656-69E4-4307-86BC-F7AB553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458-4B57-4C89-94F9-E5C673A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C8E2-134F-4805-B06E-2B994C7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4DD3-36B8-4BCD-A9CE-A56CCD7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DF1D-D657-4A71-AA24-18A450D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B102-10FC-4963-B376-BD26BD92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165B-6F51-4B90-B8FA-2B97ECCB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5139-0976-4DF7-A49A-E0DEADA0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03AC-E12A-45B0-8A41-475BC9B7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E77E-4A63-440A-BCA7-2FAC286D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6893-5622-4FF2-9545-4344CF55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FE98-1AF5-4CA8-82A3-66D78995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A41-F5B1-4DF6-918C-162C5B0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8FBD-A825-412E-B03D-96D113D6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E5C2-1246-4F07-BA2E-EEEA7DA9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B1170-BA18-4D4A-B630-A54A0067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F4F7-8757-4564-9FCA-C6A9B9B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8F2E-D3C9-4775-B3D5-FEEB3816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F178-A805-45E3-A644-0A42579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E109-828E-4824-9887-5AF47F1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3EE8-E51E-4095-9FEC-7B59B368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E728-CF6F-43FB-A896-0716BB67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E892-B72C-41FA-9155-42EC5D97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940-7066-4681-90BD-CCD148B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26CC-3682-4EB1-AB5A-3954A514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874E-E2CD-41D8-BBD0-45F782C4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5654-65A5-425D-B0E1-F82558C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0C237-CDD8-4843-8147-9A6C7C8A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0E1BE-5476-4DEA-9FDC-A76BE1D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8426-AC6B-4B15-8417-3CE5AF4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C40B-E1B5-4061-ACF6-26A02F0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D111-4A1C-4A6B-90C2-2D0D623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195C-5CCA-4FD5-950A-9FB5A57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F423E-344F-4F63-A795-3F4DD249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705-5E87-4F1C-BB4D-954C59B3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50A3-396F-433A-8BAA-3370EA46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262-B732-461E-9D83-229136C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4CB-A1DE-409E-8968-A99EE6F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594-9437-462A-B011-790CDDED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2E00-3F99-44C4-99BA-0E212C14BE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FCC3-BAAF-4F69-BF37-8793187826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BFA6-97DD-4310-8873-9EBB7C66FC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03B2-6BFF-4648-B148-FFDED5F5D1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4504-FBF3-42A7-8E25-978D11C276D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hcs.k12.nc.us/instruction/CITWweb/ObjectivesFeedback/Big%20Ideas%20and%20Essential%20Questions%20in%20Curriculum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Questions, not statements will stimulate student curiosity to find the answers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veloping 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124080" y="59436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rom:</a:t>
            </a:r>
            <a:r>
              <a:rPr b="1" i="1" lang="en-US" sz="1800" spc="-1" strike="noStrike">
                <a:solidFill>
                  <a:srgbClr val="000000"/>
                </a:solidFill>
                <a:latin typeface="Perpetua"/>
              </a:rPr>
              <a:t>“Unwrapping” th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erpetua"/>
              </a:rPr>
              <a:t>Presented by: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Center for Performanc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Cannot be answered with “yes” or “no” or with simple recall of fac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Often written as “one-two punch” question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What are literary devices? Why do authors use them?”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What is estimation? When and how do we use it?”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Open-ended, yet focus inquiry into a specific topic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nswering them requires high-level depth of knowledge (DOK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uccinct – a few words that demand a lo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96464"/>
                </a:solidFill>
                <a:latin typeface="Franklin Gothic Book"/>
              </a:rPr>
              <a:t>Benefits of Essential Question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eachers use as instructional filter for selecting lessons and activities that advance student understanding toward Big Idea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Students develop their understanding of concepts and processes as they move through instruction and activit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he work students produce provides evidence that the standards have been met—and to what degree (defined by rubric or scoring guide criteria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History/Social Science Big Idea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and Essential Ques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“Geographic, political, cultural, and religious structures work together to ensure the survival and advancement of all civilizations.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“Why do all civilizations—past and present—need organizational structures?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Science Big Idea and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“People can learn and apply a systematic process for understanding the natural world.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“What is scientific inquiry? How do we use it in real life?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Math Big Idea and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Mathematical formulas provide shortcuts for verifying estimates and solving problem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Why learn mathematical formulas? How do estimation and formulas work together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LA Big Idea and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Writing is the process of communicating in print for a variety of audiences and purpose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How do good writers express themselves? How does process shape the writer’s product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nhcs.k12.nc.us/instruction/CITWweb/ObjectivesFeedback/Big%20Ideas%20and%20Essential%20Questions%20in%20Curriculum.pd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20:48:59Z</dcterms:created>
  <dc:creator>Beth</dc:creator>
  <dc:description/>
  <dc:language>en-US</dc:language>
  <cp:lastModifiedBy>Donna</cp:lastModifiedBy>
  <dcterms:modified xsi:type="dcterms:W3CDTF">2011-03-15T01:34:48Z</dcterms:modified>
  <cp:revision>7</cp:revision>
  <dc:subject/>
  <dc:title>Developing Essential Questions</dc:title>
</cp:coreProperties>
</file>